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82B-584E-4E93-8C18-4E605E41C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o you agree with all three premi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ditional societies democracy results in corruption and other problems – in “illiberal” democr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ization occurs through economic development, but it is not economic development as such that matters, but the attitudes, education, and moral values it int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what conditions is it possible for foreigners to actually help rather than hin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 recognizes these 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A70-EA91-4929-A2BF-6FF768FE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A30-6819-4EB2-8F34-C60C089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C9D-19A6-4FD5-9FD5-E5368885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CD3-E98F-41CD-B792-D7FEA502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B5C-D8A7-4F21-84AA-1CD0A66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FB6-0175-4305-90DC-9A85FD8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6BE-1D36-407F-84BA-5132337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C37-9689-4C30-A724-13BF2C6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DD8-AA2C-4290-AAB0-D86363B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654-960E-4075-B5DF-838DC66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DF1-29C8-40FA-91CE-0865D1C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9BB-1C58-4094-A057-9BF3E02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D0F-831B-4A41-87B9-4428AB3B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71440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ll and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9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rial government of “civilized” peo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some colonies are ready for representative gover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hould have complete control over their internal affairs, through representativ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over foreig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27492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86240" y="3938760"/>
            <a:ext cx="2762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rial government of “civilized” peo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lonies want to go, they should be le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y may still benefit from being part of a larger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step towards universal pea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market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ust be some compensation for the inequality i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emingly contradictory princi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of a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 for the benefit of anothe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s apply to the two different categories of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of “civilized” peoples, it is generally not justified, unless to right the effects of anothe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mocracy-promotion interventions: if a people is ready for democracy it will show it through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 case of “barbarian” peoples, the implication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arbarians generally do not constitute nations in the proper sense of the word: no right to self-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cause they are uncivilized, barbarians cannot reciprocate (they are irrational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vilized peoples cannot avoid having barbarian neighbours (Britain neighbours India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n is intervention justif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f a civilized people finds it needs to protect its possessions, it may be forced to reduce its barbarian neighbours to power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then it is morally obligated to provid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hence to prepare them for representative government (to civilize/develop/moderniz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s in the domestic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Lib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ll argue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adults should be able to do as they wish, without interference, so long as their actions do not directly harm others: this is th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people are not prepared to do this, e.g., children: they might harm themselves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rnalistic intervention is indicated, even required, in tho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ernment of foreig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government (modern democracy) is the best form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cultural preconditions necessary for it to be stable or to provide the benefits i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ircumsta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eig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elp a country acquire those preconditions more quick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ruling the country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de: the modernization 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 is arguing for a version of what we now call the “modernization” 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kinds of societies, “traditional” and “moder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cy is possible (or has real benefits in) only in modern rather than traditional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generally occurs through econom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onal) it is possible for “modern” societies to accelerate the modernization of “traditional”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s of imperial government: How can foreigners actually help a country become ready for democr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ustification of imperial government: When is it right for foreigners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barbarian” (undeveloped/traditional) people may be trapped in a low-level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rticular form of government of its own will develop its character towards the kind of character that sustains representativ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chance good ruler could push i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civilized” (modern/developed) people, however, can provide the necessary expertise with re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ifficul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ers know little about th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know who to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eared and disliked by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rs are too powerful and trample the rights of the 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government of foreigners requi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er-than-average degree of competence an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degree of insulation from the settle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hiev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vernment that functions as a meritocratic civi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vernment that is insulated from political pressures from the public of the imperial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partiality to the settler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ill-informed intervention by the public of the imperial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is even pos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ost forms of imperial government in Mill’s time do not meet the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1:59:56Z</dcterms:created>
  <dc:creator>Full Name</dc:creator>
  <dc:description/>
  <dc:language>en-US</dc:language>
  <cp:lastModifiedBy>Full Name</cp:lastModifiedBy>
  <dcterms:modified xsi:type="dcterms:W3CDTF">2008-09-18T20:52:59Z</dcterms:modified>
  <cp:revision>9</cp:revision>
  <dc:subject/>
  <dc:title>Mill and Empire</dc:title>
</cp:coreProperties>
</file>